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13.wmf" ContentType="image/x-wmf"/>
  <Override PartName="/ppt/media/image8.jpeg" ContentType="image/jpeg"/>
  <Override PartName="/ppt/media/image1.jpeg" ContentType="image/jpeg"/>
  <Override PartName="/ppt/media/image7.png" ContentType="image/png"/>
  <Override PartName="/ppt/media/image10.wmf" ContentType="image/x-wmf"/>
  <Override PartName="/ppt/media/image6.wmf" ContentType="image/x-wmf"/>
  <Override PartName="/ppt/media/image11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F3AB-8100-4C70-B5DF-2003DD38A0A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58A1-CD5E-41C4-929E-351221C00FC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AF41-E7F9-4E95-85A6-3D5BD1A0DF2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5A52-E726-4422-AAE6-75B9921A51B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D5B0-6B6B-4339-91F6-AAA4321A8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C32C-287F-40CD-9D03-C611A5DD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8F96-3990-41EB-B9AD-89D3C94FD8E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6B13-2E38-4B58-98F0-6F45531F16D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4B27-BA7A-4BA2-8D15-BC69D802C08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A6B4-585C-4A12-84F2-47FEB9E4D0C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5AE8-C2A7-4BFD-95E4-F1050D3F828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296E-93A8-4AF4-B2EB-33A29FF3B34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D570-AA40-45D9-A57C-1D82EABDC36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6252-D926-4B86-A7E0-3E38EDD040A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7722-E0DB-432F-9EB0-294462DC31A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C826-DD6B-48A8-BAF9-D7759FAC2C7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8BF0-DF44-4907-AF55-49372EE3396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2A1-9CB6-4EC7-AF39-233F940D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069-3617-457D-AB52-C2ED2C79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927-36AD-4709-8B1C-865F048D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B70-8CF4-42D1-9AB0-09B71D8B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39F-2E62-4A9F-8EDC-D5C64B61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689-EA4D-4FA0-97C0-962B0EB8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FA5-52BF-41F1-AAFE-8394CBE2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984-FDFF-460E-8463-A5BB8102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3EE-3B3F-475B-9B72-EB517773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C85-1BA2-4183-9A82-473D6962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654-31DC-4D40-AA18-5708AF37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A80-8AAB-4237-A607-DC71CA7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6204-2C68-4F95-81F7-1D133B7EF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hools.nsw.edu.au/media/downloads/schoolsweb/student%0Bsupport/programs/disabilitypgrms/assessprog.pdf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648320" cy="314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Learning and Support Teacher Induction May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494136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ST will through the school’s learning and  support team, provide direct and timely assistance to students in regular classes with  additional learning and support needs and their teach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2d8a"/>
                </a:solidFill>
                <a:latin typeface="Arial"/>
              </a:rPr>
              <a:t>Assessment in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do you use? What information do they provide? What do you find the most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d2d8a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0" lang="en-AU" sz="3200" spc="-1" strike="noStrike">
                <a:solidFill>
                  <a:srgbClr val="002060"/>
                </a:solidFill>
                <a:latin typeface="Arial"/>
              </a:rPr>
              <a:t>Specific level assessment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ading records: fluency, accuracy, 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utherland Phonemic Awareness Test (SP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du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igh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rom Assessment to Programming</a:t>
            </a:r>
            <a:br>
              <a:rPr sz="4000"/>
            </a:br>
            <a:br>
              <a:rPr sz="4000"/>
            </a:b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s.nsw.edu.au/media/downloads/schoolsweb/student_x000b_support/programs/disabilitypgrms/assessprog.pdf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 purpose of specific level assessment tasks is to determine a student’s strengths and weakness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Needs could include any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bility to work out words on th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fficient fluency: reading rate of 100 wds per min with fewer than 3 errors for Yr 5 and more than 80 wds per min with less than 3 errors for Yr 3(Neal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derstanding conventions of print e.g. print direction , punct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bility to monitor own reading; to self correct when meaning is lost                ( integrating 4 sources of inform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tomatic recognition of high frequency words: reading rate of at least 30 words per min with fewer than 3 errors is a guide for Yrs 3-4 and at least 45 per min with 3 errors for Yrs 5-6 (Neal 19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honic skills to sound out unfamiliar words that are regular and phonemic awareness  skills to be able to both segment a word into all its sounds and to blend sounds to make a 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Knowledge of vocabulary (what a word says and 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bility to sp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bility to communicate effectively when writing a range of text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Program Files\Microsoft Office\Media\CntCD1\ClipArt6\j0292024.wmf"/>
          <p:cNvPicPr/>
          <p:nvPr/>
        </p:nvPicPr>
        <p:blipFill>
          <a:blip r:embed="rId1"/>
          <a:stretch/>
        </p:blipFill>
        <p:spPr>
          <a:xfrm>
            <a:off x="6500880" y="1000080"/>
            <a:ext cx="13572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Page0001"/>
          <p:cNvPicPr/>
          <p:nvPr/>
        </p:nvPicPr>
        <p:blipFill>
          <a:blip r:embed="rId1"/>
          <a:stretch/>
        </p:blipFill>
        <p:spPr>
          <a:xfrm>
            <a:off x="2195640" y="0"/>
            <a:ext cx="54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2060"/>
                </a:solidFill>
                <a:latin typeface="Arial"/>
              </a:rPr>
              <a:t>Reading rec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vide an accurate description of oral reading beh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uracy: errorless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uency : level of phrasing, accuracy and rate (1 min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prehension :  undisputed purpose of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Questions to guide your observation of </a:t>
            </a:r>
            <a:br>
              <a:rPr sz="2800"/>
            </a:b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students’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s the student reading for mea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strategies does the student use to self moni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es the student use the sources of information to anticipate words and phra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an error is made,  does the student check one source against another eg meaning with visu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es the student predominantly rely on one source of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4360" y="1214280"/>
            <a:ext cx="8229600" cy="588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Orientate all texts prior to taking reading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ell the student the title, ask the student to reread the title. The title is not included in the sc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e names ( Proper nouns are only counted as errors the first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Student reads for 1 minute timing. If meets criteria then student continues reading text without being ti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en a student comes to an unfamiliar word, wait for a response. If the response is incorrect, tell the student the word. (T=t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Use ticks for each correct response and record all attempts and errors in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aking a reading re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640" y="188640"/>
            <a:ext cx="8229600" cy="59547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the number of errors, fluency, accuracy and the self corre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Repetitions are not counted as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Uncorrected errors, omissions and insertions are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counted as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Non standard pronunciations and breaking word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to parts are not counted as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Errors that are self-corrected  (without an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rompting) is counted as a self correction an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not a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ssess comprehension if text is at instructional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Before asking questions allow the student time to reread the text silently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876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ading record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000080"/>
            <a:ext cx="822960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Arial"/>
              </a:rPr>
              <a:t>march (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lf- Correctio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 u="sng">
                <a:solidFill>
                  <a:srgbClr val="000000"/>
                </a:solidFill>
                <a:uFillTx/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∕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Omissio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e  decided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^      to  strike  the  match.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___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old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ppeal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Repetition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e decided to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 flipV="1" rot="10800000">
            <a:off x="4000320" y="5643720"/>
            <a:ext cx="2143080" cy="7128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635" h="91">
                <a:moveTo>
                  <a:pt x="635" y="91"/>
                </a:moveTo>
                <a:cubicBezTo>
                  <a:pt x="529" y="45"/>
                  <a:pt x="423" y="0"/>
                  <a:pt x="317" y="0"/>
                </a:cubicBezTo>
                <a:cubicBezTo>
                  <a:pt x="211" y="0"/>
                  <a:pt x="53" y="76"/>
                  <a:pt x="0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ssion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ssroom assessment – identify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tching students to text – running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Johnson Sight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gmar Neal Edu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RW= Runn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   = 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C =  Self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ccuracy: 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W – E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x 100= __%      eg     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0 – 16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x 100 = 9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RW                                            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Self Correction Rate: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+SC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  eg   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+5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 = Ratio 1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alcul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alysing Reading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3840" y="1500120"/>
            <a:ext cx="8643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hat cue does student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eaning – trying to make sense of what is being read   </a:t>
            </a:r>
            <a:r>
              <a:rPr b="1" lang="en-AU" sz="2000" spc="-1" strike="noStrike">
                <a:solidFill>
                  <a:srgbClr val="00b050"/>
                </a:solidFill>
                <a:latin typeface="Arial"/>
                <a:ea typeface="Arial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Structure – knowledge of language patterns being used </a:t>
            </a:r>
            <a:r>
              <a:rPr b="1" lang="en-AU" sz="2000" spc="-1" strike="noStrike">
                <a:solidFill>
                  <a:srgbClr val="00b050"/>
                </a:solidFill>
                <a:latin typeface="Arial"/>
                <a:ea typeface="Arial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Visual Cues  -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b050"/>
                </a:solidFill>
                <a:latin typeface="Arial"/>
              </a:rPr>
              <a:t>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honological  -   Do the letters match the words on th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Graphological – Do the words I say match the words on the pag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99"/>
                </a:solidFill>
                <a:latin typeface="Arial"/>
              </a:rPr>
              <a:t>Graphological and Phonological ( Visual ) Cue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99"/>
                </a:solidFill>
                <a:latin typeface="Arial"/>
              </a:rPr>
              <a:t>what the words and letters look like. Do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9999"/>
                </a:solidFill>
                <a:latin typeface="Arial"/>
              </a:rPr>
              <a:t>substitution look like the word in the text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Arial"/>
              </a:rPr>
              <a:t>here’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ues us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xt: I like to see horses at the farm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   S  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99"/>
                </a:solidFill>
                <a:latin typeface="Arial"/>
              </a:rPr>
              <a:t>Grammatical (structure) cues – the structure</a:t>
            </a:r>
            <a:r>
              <a:rPr b="0" lang="en-AU" sz="1400" spc="-1" strike="noStrike">
                <a:solidFill>
                  <a:srgbClr val="009999"/>
                </a:solidFill>
                <a:latin typeface="Arial"/>
              </a:rPr>
              <a:t> of the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9999"/>
                </a:solidFill>
                <a:latin typeface="Arial"/>
              </a:rPr>
              <a:t>to point of error. Does it sound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Arial"/>
              </a:rPr>
              <a:t>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xt:  I like to see horses at the farm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   S  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99"/>
                </a:solidFill>
                <a:latin typeface="Arial"/>
              </a:rPr>
              <a:t>Semantic (Meaning )cues   - meaning or general con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99"/>
                </a:solidFill>
                <a:latin typeface="Arial"/>
              </a:rPr>
              <a:t>of story is reflected in the error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9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xt: I like to see horses at the farm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   S  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59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xt: I like to see horses at the farm.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   S  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6288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   up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at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 on    p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       w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f/i/z      leg                    b /u/b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              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z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 x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ag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x 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bud 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yen 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 r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x           jut 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7/14 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MCWB01114_0000[1]"/>
          <p:cNvPicPr/>
          <p:nvPr/>
        </p:nvPicPr>
        <p:blipFill>
          <a:blip r:embed="rId1"/>
          <a:stretch/>
        </p:blipFill>
        <p:spPr>
          <a:xfrm>
            <a:off x="1258920" y="170028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MCWB01114_0000[1]"/>
          <p:cNvPicPr/>
          <p:nvPr/>
        </p:nvPicPr>
        <p:blipFill>
          <a:blip r:embed="rId2"/>
          <a:stretch/>
        </p:blipFill>
        <p:spPr>
          <a:xfrm>
            <a:off x="5076720" y="170028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MCWB01114_0000[1]"/>
          <p:cNvPicPr/>
          <p:nvPr/>
        </p:nvPicPr>
        <p:blipFill>
          <a:blip r:embed="rId3"/>
          <a:stretch/>
        </p:blipFill>
        <p:spPr>
          <a:xfrm>
            <a:off x="2556000" y="170028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WB01114_0000[1]"/>
          <p:cNvPicPr/>
          <p:nvPr/>
        </p:nvPicPr>
        <p:blipFill>
          <a:blip r:embed="rId4"/>
          <a:stretch/>
        </p:blipFill>
        <p:spPr>
          <a:xfrm>
            <a:off x="3851280" y="170028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WB01114_0000[1]"/>
          <p:cNvPicPr/>
          <p:nvPr/>
        </p:nvPicPr>
        <p:blipFill>
          <a:blip r:embed="rId5"/>
          <a:stretch/>
        </p:blipFill>
        <p:spPr>
          <a:xfrm>
            <a:off x="6804000" y="170028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MCWB01114_0000[1]"/>
          <p:cNvPicPr/>
          <p:nvPr/>
        </p:nvPicPr>
        <p:blipFill>
          <a:blip r:embed="rId6"/>
          <a:stretch/>
        </p:blipFill>
        <p:spPr>
          <a:xfrm>
            <a:off x="1500120" y="4786200"/>
            <a:ext cx="28584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MCWB01114_0000[1]"/>
          <p:cNvPicPr/>
          <p:nvPr/>
        </p:nvPicPr>
        <p:blipFill>
          <a:blip r:embed="rId7"/>
          <a:stretch/>
        </p:blipFill>
        <p:spPr>
          <a:xfrm>
            <a:off x="3214800" y="4786200"/>
            <a:ext cx="2854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511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431964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40435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j0398129[1]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3203640" y="2133720"/>
            <a:ext cx="2863800" cy="3095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286920"/>
            <a:ext cx="770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Fair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Fairness does not mean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veryone gets the same, it mea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that everyone gets what they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ichard Lavo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51087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SESSMENT FOR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0040" y="857160"/>
            <a:ext cx="81756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2" descr="C:\Program Files\Microsoft Office\Media\CntCD1\ClipArt2\j0231643.wmf"/>
          <p:cNvPicPr/>
          <p:nvPr/>
        </p:nvPicPr>
        <p:blipFill>
          <a:blip r:embed="rId1"/>
          <a:stretch/>
        </p:blipFill>
        <p:spPr>
          <a:xfrm>
            <a:off x="539640" y="1989000"/>
            <a:ext cx="2603520" cy="230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1" descr="C:\Program Files\Microsoft Office\Media\CntCD1\ClipArt2\j0231641.wmf"/>
          <p:cNvPicPr/>
          <p:nvPr/>
        </p:nvPicPr>
        <p:blipFill>
          <a:blip r:embed="rId2"/>
          <a:stretch/>
        </p:blipFill>
        <p:spPr>
          <a:xfrm>
            <a:off x="6000840" y="4500720"/>
            <a:ext cx="264636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Comic Sans MS"/>
              </a:rPr>
              <a:t>Assessment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of collecting, analysing and recording information about student progress towards achievement of syllabus outcom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 purpose of assessment is to provide information on students achievement and progress and SET the direction FOR ONGOING TEACHING and LEARN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Pj04394050000[1]"/>
          <p:cNvPicPr/>
          <p:nvPr/>
        </p:nvPicPr>
        <p:blipFill>
          <a:blip r:embed="rId1"/>
          <a:stretch/>
        </p:blipFill>
        <p:spPr>
          <a:xfrm>
            <a:off x="3571920" y="4797360"/>
            <a:ext cx="2071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12"/>
          <p:cNvSpPr/>
          <p:nvPr/>
        </p:nvSpPr>
        <p:spPr>
          <a:xfrm>
            <a:off x="324000" y="2060640"/>
            <a:ext cx="2232000" cy="100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8a"/>
                </a:solidFill>
                <a:latin typeface="Comic Sans MS"/>
              </a:rPr>
              <a:t>Teaching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8a"/>
                </a:solidFill>
                <a:latin typeface="Comic Sans MS"/>
              </a:rPr>
              <a:t>Learning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549360"/>
            <a:ext cx="1944720" cy="707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732720" y="549360"/>
            <a:ext cx="1944720" cy="707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utcomes to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9640" y="6093000"/>
            <a:ext cx="26640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ork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012000" y="5950080"/>
            <a:ext cx="266364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aching and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132000" y="595008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203640" y="198900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84360" y="220500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ere are m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udents’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6588000" y="2060640"/>
            <a:ext cx="2232000" cy="100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877080" y="2276640"/>
            <a:ext cx="1655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ere are m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udents’ go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3095640" y="2492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324000" y="4581360"/>
            <a:ext cx="2232000" cy="1082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39640" y="472428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w do I kn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en my students’ get the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6588000" y="4581360"/>
            <a:ext cx="2232000" cy="10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6804000" y="479736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w will my students’ get t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 flipH="1">
            <a:off x="3058920" y="5300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1619280" y="3357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7667640" y="32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3"/>
          <p:cNvSpPr/>
          <p:nvPr/>
        </p:nvSpPr>
        <p:spPr>
          <a:xfrm>
            <a:off x="3419640" y="2924280"/>
            <a:ext cx="2232000" cy="1944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3635280" y="371628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179280" y="35002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cessing and reco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7704000" y="3573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lanning and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450072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8"/>
          <p:cNvSpPr/>
          <p:nvPr/>
        </p:nvSpPr>
        <p:spPr>
          <a:xfrm flipH="1">
            <a:off x="3708000" y="4365720"/>
            <a:ext cx="792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500720" y="4365720"/>
            <a:ext cx="79200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 flipV="1">
            <a:off x="4500720" y="2923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2"/>
          <p:cNvSpPr/>
          <p:nvPr/>
        </p:nvSpPr>
        <p:spPr>
          <a:xfrm flipH="1" flipV="1">
            <a:off x="3492000" y="3303360"/>
            <a:ext cx="100836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4500720" y="3303360"/>
            <a:ext cx="100800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2d2d8a"/>
                </a:solidFill>
                <a:latin typeface="Arial"/>
              </a:rPr>
              <a:t>Types o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66"/>
                </a:solidFill>
                <a:latin typeface="Arial"/>
              </a:rPr>
              <a:t>Criterion referenced -  State / National -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PLAN criterion referenced - what students can demonstrate based on syllabus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66"/>
                </a:solidFill>
                <a:latin typeface="Arial"/>
              </a:rPr>
              <a:t>Standardise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norm referenced)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termines average or typical performance of different age groups, often used as  eligibility criteria – NEALE, Waddington , SA Spelling, SPAT, C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66"/>
                </a:solidFill>
                <a:latin typeface="Arial"/>
              </a:rPr>
              <a:t>Diagnostic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dentifies specific needs of students  - EDUCHECK, Johnson Sight Words, CELF scre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66"/>
                </a:solidFill>
                <a:latin typeface="Arial"/>
              </a:rPr>
              <a:t>Curriculum Based Assessment (CBA)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– tasks and assessments developed in relation to the outcomes of the lessson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2d8a"/>
                </a:solidFill>
                <a:latin typeface="Arial"/>
              </a:rPr>
              <a:t>Assessing: Where are the students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students with high support needs in literacy, as for all students, the first step is to find out what they can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udents who have been identified through Naplan testing and/or curriculum based assessment and teacher observation as needing additional support, can be assessed using specific level assessment tasks (Focused Individual Assess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Program Files\Microsoft Office\Media\CntCD1\ClipArt6\j0292024.wmf"/>
          <p:cNvPicPr/>
          <p:nvPr/>
        </p:nvPicPr>
        <p:blipFill>
          <a:blip r:embed="rId1"/>
          <a:stretch/>
        </p:blipFill>
        <p:spPr>
          <a:xfrm>
            <a:off x="7164360" y="5084640"/>
            <a:ext cx="1655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2060"/>
                </a:solidFill>
                <a:latin typeface="Arial"/>
              </a:rPr>
              <a:t>Scientific Based Research Supports Better Literacy Outcomes</a:t>
            </a:r>
            <a:r>
              <a:rPr b="0" lang="en-A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ientific based research has identified the following areas that we need to address in the reading process to achieve successful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arly language and literacy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nemic 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nics, (word study, and spel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cabulary and Language enri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ading 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ll Components require direct, explicit and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ystematic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National Reading Inqui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2:18:44Z</dcterms:created>
  <dc:creator>SSEA</dc:creator>
  <dc:description/>
  <dc:language>en-US</dc:language>
  <cp:lastModifiedBy>Haenga, Simon</cp:lastModifiedBy>
  <dcterms:modified xsi:type="dcterms:W3CDTF">2012-08-01T03:38:21Z</dcterms:modified>
  <cp:revision>64</cp:revision>
  <dc:subject/>
  <dc:title>Slide 1</dc:title>
</cp:coreProperties>
</file>